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654C-FF08-4206-98CB-36051B5C58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with physical descriptions. Transaction-processing or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-level software might benefit from writing update records in logical terms, howev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logically expressed updates are more compact than physically expressed 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descriptions necessarily depend on NTFS to understand what operations such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eting a file invol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(usually several) for each of the following transac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re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le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end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unc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etting fil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nam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ing the security applied to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do and undo information in an update record must be carefully designed beca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though NTFS undoes a transaction, recovers from a system failure, or even operates norm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might try to redo a transaction that has already been done or, conversely, to undo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 that never occurred or that has already been undone. Similarly, NTFS might try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o or undo a transaction consisting of several update records, only some of which ar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disk. The format of the update records must ensure that executing redundant redo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do operations is idempotent, that is, has a neutral effect. For example, setting a bit tha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ready set has no effect, but toggling a bit that has already been toggled does. The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lso handle intermediate volume states correct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point records In addition to update records, NTFS periodically writes a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to the log file. A checkpoint record helps NTFS determine what processing would be needed to recover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 if a crash were to occur immediately. Using information stored in the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, NTFS knows, for example, how far back in the log file it must go to begin its recove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writing a checkpoint record, NTFS stores the LSN of the record in the restart area so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quickly find its most recently written checkpoint record when it begins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y after a crash occu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indows boot process doesn’t begin when you power on your computer or pres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button. It begins when you install Windows on your computer. At some point dur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on of the Windows Setup program, the system’s primary hard disk is prepar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that takes part in the boot process. Before we get into what this code does, let’s look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and where Windows places the code on a disk. Since the early days of MS-DOS, a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existed on x86 systems for the way physical hard disks are divided into volu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perating systems split hard disks into discrete areas known as partitions and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 systems (such as FAT and NTFS) to format each partition into a volume. A hard disk 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 up to four primary partitions. Because this apportioning scheme would limit a di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four volumes, a special partition type, called an extended partition, further allocates up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additional partitions within each primary partition. Extended partitions can con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nded partitions, which can contain extended partitions, and so on, making th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volumes an operating system can place on a disk effectively infinit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disks are addressed in units known as sectors. A hard disk sector on an IBM-compat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is typically 512 bytes. Utilities that prepare hard disks for the definition of volu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ing the MS-DOS Fdisk utility or the Windows Setup program, write a sector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d a Master Boot Record (MBR) to the first sector on a hard disk. The MBR includes a fixed amount of space that contains execu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s (called boot code) and a table (called a partition table) with four entries that def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ocations of the primary partitions on the disk. When an IBM-compatible computer boo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code it executes is called the BIOS, which is encoded into the computer’s RO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S selects a boot device, reads that device’s MBR into memory, and transfers contro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the MB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BRs written by Microsoft partitioning tools, such as the one integrated into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up and the Disk Management MMC snap-in, go through a similar process of readin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control. First, an MBR’s code scans the primary partition table until it locate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tion containing a flag that signals the partition is bootable. When the MBR finds at l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e such flag, it reads the first sector from the flagged partition into memory and transf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 to code within the partition. This type of partition is called a boot partition,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sector of such a partition is called a boot sector. The volume defined for the boot part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alled the system volu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tandard BIOS implementations that x86 hardware uses dictate one requirement of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ing format in Windows—that the first sector of the primary disk contains the Ma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t Record (MBR). When an x86 processor boots, the computer’s BIOS reads the MBR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eats part of the MBR’s contents as executable code. The BIOS invokes the MBR code to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operating system boot process after the BIOS performs preliminary configu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mputer’s hardware. In Microsoft operating systems, including Windows, the MBR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ains a partition table. A partition table consists of four entries that define the location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any as four primary partitions on a disk. The partition table also records a partition’s ty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merous predefined partition types exist, and a partition’s type specifies which file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artition includes. For example, partition types exist for FAT32 and NTFS. A special par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, an extended partition, contains another MBR with its own partition table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ivalent of a primary partition in an extended partition is called a logical drive. By 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nded partitions, Microsoft’s operating systems overcome the apparent limit of four part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isk. In general, the recursion that extended partitions permit can continue indefinitel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means that no upper limit exists to the number of possible partitions on a dis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Windows boot process makes evident the distinction between primary and logical dri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ystem must mark one primary partition of the primary disk as active. The Windows 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 MBR loads the code stored in the first sector of the active partition (the system volu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o memory and then transfers control to that code. Because of the role in the boot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yed by this first sector in the primary partition, Windows designates the first sector o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 as the boot sector. Recall from Chapter 4 that every partition formatted with a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has a boot sector that stores information about the structure of the file system on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the disk format in Windows necessary for creating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s such as mirrors, stripes and RAID-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partitioned using Logical Disk Manager (LDM) partitioning. The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ystem in Windows, which consists of user-mode and device driver components, overs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. Microsoft licenses LDM from VERITAS Software, which originally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DM technology for UNIX systems. Working closely with Microsoft, VERITAS ported its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Windows to provide the operating system with more robust partitioning and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 capabilities. A major difference between LDM’s partitioning and MBR and GPT part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at LDM maintains one unified database that stores partitioning information for 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ynamic disks on a system—including multipartition-volume configu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LDM’s UNIX version incorporates disk groups, in which all the dynamic disks th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ssigns to a disk group share a common database. VERITAS’s commercial volume-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for Windows also includes disk groups, but the Windows LDM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only one disk gro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849-7283-4CEE-BFEB-985B18D7EF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a single logical volume composed of a maximum of 32 free partition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more disks. The Windows Disk Management MMC snap-in combines the part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panned volume, which can then be formatted for any of the Windows-supported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. Spanned volumes were called volume sets in Windows N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useful for consolidating small areas of free disk space into one larger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for creating a single, large volume out of two or more small disks. If the spanne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formatted for NTFS, it can be extended to include additional free areas or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s without affecting the data already stored on the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41B-FA1C-4B53-85F8-1F5AB0F97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iped volume is a series of up to 32 partitions, one partition per disk, that gets comb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ingle logical volume. Striped volumes are also known as RAID level 0 (RAID-0) volu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partition in a striped volume need not span an entire disk; the only restriction i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tions on each disk be the same siz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file system, this striped volume appears to be a single volume, but a volum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s data storage and retrieval times on the striped volume by distributing the volume’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physical disks. The volume manager accesses the physical sectors of the disks a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numbered sequentially in stripes across the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mirrored volume, the contents of a partition on one disk are duplicated in an equal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on another disk. Mirrored volumes are sometimes referred to as RAID level 1 (RAID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program writes to drive C:, the volume manager writes the same data to the sam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irror partition. If the first disk or any of the data on its C: partition be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adable because of a hardware or software failure, the volume manager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s the data from the mirror partition. A mirror volume can be formatted for any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-supported file systems. The file system drivers remain independent and are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fected by the volume manager’s mirroring ac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rrored volumes can aid in read I/O throughput on heavily loaded systems. When I/O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igh, the volume manager balances its read operations between the primary 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mirror partition (accounting for the number of unfinished I/O requests pending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disk). Two read operations can proceed simultaneously and thus theoretically finish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the time. When a file is modified, both partitions of the mirror set must be written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writes are done asynchronously, so the performance of user-mode programs is gener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ffected by the extra disk upd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AID-5 volume is a fault tolerant variant of a regular striped volume. RAID-5 volumes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D level 5. They are also known as striped volumes with parity because they are 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striping approach taken by striped volumes. Fault tolerance is achieved by reser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quivalent of one disk for storing parity for each strip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time data is written to a disk, the parity bytes correspo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modified bytes must be recalculated and rewritten. If the parity were always writ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ame disk, that disk would be busy continually and could become an I/O bottlene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ing a failed disk in a RAID-5 volume relies on a simple arithmetic principle: in an eq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n variables, if you know the value of n – 1 of the variables, you can determin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f the missing variable by subtraction. For example, in the equation x + y = z, wher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s the parity stripe, the volume manager computes z – y to determine the content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; to find y, it computes z – x. The volume manager uses similar logic to recover lost data. I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in a RAID-5 volume fails or if data on one disk becomes unreadable, the volum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ts the missing data by using the XOR operation (bitwise logical addi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least three disks (or rather, three same-sized partitions on th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s) are required to create a RAID-5 volu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inarily, if a program tries to read data from a bad disk sector, the read operation fai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in the allocated cluster becomes inaccessible. If the disk is formatted as a fault-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volume, however, the Windows fault-tolerant driver dynamically retrieves a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f the data that was stored on the bad sector and then sends NTFS a warning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or is bad. NTFS allocates a new cluster, replacing the cluster in which the ba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s, and copies the data to the new cluster. It flags the bad cluster and no longer uses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recovery and dynamic bad-cluster remapping is an especially useful feature fo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s and fault-tolerant systems or for any application that can’t afford to lose data. If the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isn’t loaded when a sector goes bad, NTFS still replaces the cluster an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it, but it can’t recover the data that was on the bad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ection we discuss the fault-tolerance and availability mechanisms found in Windows Server 2003. On the file-system side, in addition to proper disk management and antivirus protection, Windows Server 2003 provides Distributed File System (DFS), Volume Shadow Copy (VSC), and Remote Storage technolog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system-level fault tolerance, Windows Server 2003 includes the Microsoft Cluster Service (MSCS) and Network Load Balancing (NLB) technologies to provide redundancy and failover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ed File System (DFS) is a service that layers on top of the Workstation servic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ogether file shares into a single namespace. The file shares can reside on the s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or on different computers, and DFS provides client access to the resources i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-transparent manner. The root of a DFS namespace must be a file share defin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Windows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ddition to delivering a unified network-resource namespace, DFS provides other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ugh DFS replica sets. An administrator can a create DFS replica set from two or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s and use a replication mechanism such as FRS to copy data between the shares of a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to keep their contents synchronized. DFS provides several forms of load balancing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ing and/or selecting members of a replica set to fulfill a client request for data on the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. In addition, DFS achieves high availability by routing requests to the working m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members of a replica set when a member becomes unavail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erver-side implementation of DFS consists of a Windows service (\Windows\System32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ssvc.exe) and a device driver (\Windows\System32\Drivers\Dfs.sys). The DFS service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xporting DFS topology management interfaces and maintaining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ology in either the registry (on non–Active Directory systems) or Active Directory.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 performs topology lookups when it receives a client request so that it can direct the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ystem where the file it is requesting resi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client side, DFS support is implemented in the MUP driver, described earlier, and 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IFS redirector for its internal communication with DFS servers. The DFS client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implemented in \Windows\System32\Ntlanman.dll. When a client issues a file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that specifies a file in the DFS namespace, the MUP driver on the client commun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target file server by using the appropriate redir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Replication service (FRS) is included with Windows Server systems. Its primary purp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to replicate the contents of a domain controller’s \SYSVOL directory, which is where Wind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 controllers store logon scripts and group policies. (Group policies perm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ors to define usage and security policies for the computers that belong to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.) In addition, FRS can be used to replicate Distributed File System (DFS) sh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ween systems. FRS allows for distributed multimaster replication, which enables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 to perform replication activity. When a replicated directory or file is changed,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are propagated to the other domain controll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undamental concept in FRS is a replica set, which consists of two or more system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icate between themselves the contents of a directory tree according to an administrativ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d schedule and topology. Only directories on NTFS volumes can be replicated beca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relies on the NTFS change journal to detect changes to files in directories in a replic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FRS is based on multimaster replication, it can theoretically support hundreds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 thousands of systems as part of a replica set, and the computers of a replica set can 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 with arbitrary network topologies (such as ring, star, or mesh). Computers can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embers of multiple replica se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is implemented as a Windows service (\Windows\System32\Ntfrs.exe) that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ed RPC with encryption to communicate between instances of itself running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computers. In addition, because Active Directory contains its own replication capabiliti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uses Active Directory APIs to retrieve FRS configuration information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’s Active Direct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, which is included with Windows Advanced Server, is based on NDIS intermediate-driver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 allows for the creation of a cluster containing up to 32 computers, which are called cluster h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Network Load Balancing. The cluster maintains a single virtual IP address that is pub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access by clients, and client requests go to all the computers in the cluster. However,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cluster host responds to the request. The Network Load Balancing NDIS drivers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the client space among available cluster hosts in a distributed manner.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, each host handles its portion of incoming client requests and every client request 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 handled by one and only one host. The cluster host that determines it should handle a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allows the request to propagate up to the TCP/IP protocol driver and eventuall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pplication; the other cluster hosts don’t. If a cluster host fails, the rest of the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es that the cluster host is no longer a candidate for processing requests and redis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coming client requests to the remaining cluster hosts. No new client requests are sent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owned cluster host. Another cluster host can be added to the cluster as a replace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it will then seamlessly start handling client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Load Balancing isn’t a general-purpose clustering solution because the serv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lients communicate with must have certain characteristics: the first is that it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CP/IP-based, and the second is that it must be able to handle client requests on an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twork Load Balancing cluster. This second requirement typically means that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hat must have access to shared state in order to service client requests must ma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red state itself—Network Load Balancing doesn’t include services for auto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ng shared state across cluster hosts. Applications that are ideally suited for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Balancing include a Web server that serves static content, Windows Media Serv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0F2-9BEF-45C2-87ED-5EE46636AC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writes several types of records to its transaction log. Two types, update records and checkpoint records, are describ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records Update records are the most common type of record NTFS writes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 file. Each update record contains two kinds of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o information How to reapply one suboperation of a fully logged (“committed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o the volume if a system failure occurs before the transaction is flu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ndo information How to reverse one suboperation of a transaction that was only parti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d (“not committed”) at the time of a system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covering after a system failure, NTFS reads through the log file and redoes each com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. Although NTFS completed the committed transactions before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, it doesn’t know whether the cache manager flushed the volume modifications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ime. The updates might have been lost from the cache when the system failed.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executes the committed transactions again just to be sure that the disk is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redoing the committed transactions during a file system recovery, NTFS locates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in the log file that weren’t committed at failure and rolls back (undoes) each sub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ad been logg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F313-A43B-4C1B-BAAF-2C4E6ECB5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9D48-4C67-41B2-804F-B369C3551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D848-538E-41F0-A463-28DE537AA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9A21-102D-49E5-9EE7-88845FAB6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893A-04E8-4459-8A54-34E85A8ED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BB4F-677A-4C64-B4CF-8D8357AD3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5A4D-A80F-42BC-8C01-54A885CD4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C0C3-0AD3-46A8-BC97-24F26243A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8AD6-0884-4216-8C22-B055CCB14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C7E6-1317-469D-93E9-D9E61F6AC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CD83-D87F-4B62-B329-12AD1EE12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7A85-11C7-4D62-B64F-0BD50F92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F99-816B-4E1E-A76F-4C5C3D228F5F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0: Fault Toler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forward in log file from beginning of last 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s transaction/dirty page tables it copied in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tables for oldest update record of a no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tr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looks for “page update“ records which contain volume modification that might not have been flushed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does these updates in the cache until it reaches end of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 manager “lazy writer thread“ begins to flush cache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 any transactions that were not committed when system fa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undo pass – volume is at consistent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empty LFS restart area; no recovery is needed if system fails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FD46-2242-405B-B340-86C4CFB35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48006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495680"/>
            <a:ext cx="1447920" cy="381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ndo Pass - Exampl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committed before power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still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ust log undo operations in log fi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might fail again during recover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ould have to redo its undo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133720"/>
            <a:ext cx="106704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13372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87631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438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2578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9718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91520" y="24382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71400" y="1523880"/>
            <a:ext cx="29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 committed“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182844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000" y="3886200"/>
            <a:ext cx="40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llocate/Initialize an MFT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Deallocate the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0160" y="3276720"/>
            <a:ext cx="40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dd the filename to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Remove the filename from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8960" y="3886200"/>
            <a:ext cx="32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Set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Clear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229600" y="27428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248520" y="2743200"/>
            <a:ext cx="3045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6880" y="274284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066680"/>
            <a:ext cx="1371600" cy="12193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Power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1166-696F-458E-8C0C-961CEB179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FS Recovery - Conclusion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will return volume to some preexisting consistent state (not necessarily state before c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zy commit algorithm: log file is not immediately flushed when a „transaction committed“ record is wri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Service batches reco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sh when cache manager calls or check pointing record is written (once every 5 sec); also when log is 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parallel transactions might have been active before c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file mechanisms for error hand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I/O errors are not file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ight create MFT record and detect that disk is full when allocating space for a file in the bit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info to undo changes and returns „disk full“ error to c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E3C6-118C-494A-ADFC-A5EBE13A9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ce Support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ing multiple disk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‘ capabilities are enhanced by the fault-tolerant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lume manag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s above hard disk drivers in the I/O system‘s layered driver sc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tDisk – for bas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MIO – for dynam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management capabiliti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data recovery from bad sectors o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itself implements bad-sector recover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CSI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820D-43A5-4070-B5F8-0E61F664E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a physical storage device such as a hard disk, a 3.5-inch floppy disk, or a CD-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isk is divided in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tor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dressable blocks of fixe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 sizes are determined by hard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current x86-processor hard disk sectors are 512 bytes, and CD-ROM sectors are typically 2048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ture x86 systems might support larger hard disk sector si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collections of contiguous sectors on a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other disk-management database stores a partition's starting sector, size, and other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mple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a single partition that file system drivers manage as a singl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rtition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multiple partitions and that file system drivers manage as a singl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volumes offer performance, reliability, and sizing features that simple volumes do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7912-0AF4-4DD4-9E70-DD20898382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vs Dynamic Dis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disk partitioning schemes used by Wind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disks rely on MS-DOS-style disk parti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ally Windows legacy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information for each disk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information not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be lost when disk moved, OS reinstal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disks implement a more flexible partitioning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ation of multipartition volumes is on disk and mirrored across the dynamic disks of the same computer. This allows for easy migration and minimizes chances of disk configuration lo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dvantage is that partitioning is not understood by other OS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tops only support basic disk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ually only disk and disks not remov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isks are basic disks unless created new as dynamic disks or conve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6874-DD4A-43F2-8187-555F62453F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sk has a sector called 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ster Boot Record (MB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its first sector, that defines the first level of partitioning with i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ition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98680" y="2514600"/>
            <a:ext cx="83808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98680" y="32004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8680" y="3427560"/>
            <a:ext cx="838080" cy="22860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8680" y="36576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8680" y="38862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2575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312408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0680" y="32767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39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939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946240" y="3200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52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648320"/>
            <a:ext cx="1219320" cy="60948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Boot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648320"/>
            <a:ext cx="152280" cy="60948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648320"/>
            <a:ext cx="5331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56272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57754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2096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4880" y="57913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xten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43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8880" y="358128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s within a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21932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66680" y="2514240"/>
            <a:ext cx="3812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2590920"/>
            <a:ext cx="228600" cy="22860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514600"/>
            <a:ext cx="2133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352680"/>
            <a:ext cx="228600" cy="22860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6D88-63E9-4B13-BB2D-49DCA59DFC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BR describes up to 4 primary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record of each primary partition i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rimary partition can be marked “bootab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partition has a partition type (FAT, FAT32, NTF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overcome a 4-partition limit, a basic disks define a special type of partition called 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subdisk, complete with its own M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NT 4, configuration for multipartition volumes is stored in the Registry’s HKLM\System\Disk sub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of system is reinstalled or disk is moved to anothe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7CD6-8AFE-4AC7-BB01-DD5D43B343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ynamic disk partitioning scheme is defined by a component called Logical Disk Manager (LD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consists of a service and driver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 scheme was co-developed with Veritas Software, porting LDM from UNIX implem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M maintains one unified database that stores all partitioning information, for all disks in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also stores multipartition 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occupies last 1 MB of each dynamic disk, and is mirrored across a system’s dynamic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1400" indent="-25632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tas offers add-on software that allow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ynamic disks to be managed in subs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isk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486400"/>
            <a:ext cx="152280" cy="53352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5486400"/>
            <a:ext cx="2666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548640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480" y="5880240"/>
            <a:ext cx="8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t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2800" y="6400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partition 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6248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4560" y="64008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257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6120" y="48769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6095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62520" y="6019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0FA0-68CC-495A-984A-74BDD13D74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’s boot and system disks have  a mix of dynamic and basic disk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DR only understands basic-disk partit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partitions are call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ft part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as basic-disk partitions ar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rd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on “pure” dynamic disks, the MBR contains a basic-disk partition table that defines the entire usable area of the disk as a single hard partition of type L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manages the space within the LDM partition in i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2485-F282-454B-8705-483C13419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64AC-BED7-43A9-A7CA-41A75A41354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ultipartition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ltipartition volumes available in Window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nn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rror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ped-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-5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rtitions that make up new multipartition volumes must be on dynamic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preserves NT 4 multipartition volumes on basic disks during an up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4266-B006-431C-A4CD-8632F839C6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olume Management Features –</a:t>
            </a:r>
            <a:br>
              <a:rPr sz="4000"/>
            </a:b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Spann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ann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logical volume composed of a maximum of 32 areas of free space on one or more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volume sets can be dynamically increased in siz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bitmap file which stores allocation status needs to be extend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de physical configuration of disks from 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: Windows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k Management MMC snap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anned volumes were called volume sets in Windows NT 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00400" y="2133720"/>
            <a:ext cx="609480" cy="1143000"/>
            <a:chOff x="3200400" y="2133720"/>
            <a:chExt cx="609480" cy="1143000"/>
          </a:xfrm>
        </p:grpSpPr>
        <p:sp>
          <p:nvSpPr>
            <p:cNvPr id="233" name=""/>
            <p:cNvSpPr/>
            <p:nvPr/>
          </p:nvSpPr>
          <p:spPr>
            <a:xfrm>
              <a:off x="3200400" y="30481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667240"/>
              <a:ext cx="609480" cy="533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25909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210040"/>
              <a:ext cx="6094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1337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029200" y="2133720"/>
            <a:ext cx="609480" cy="1143000"/>
            <a:chOff x="5029200" y="2133720"/>
            <a:chExt cx="609480" cy="1143000"/>
          </a:xfrm>
        </p:grpSpPr>
        <p:sp>
          <p:nvSpPr>
            <p:cNvPr id="241" name=""/>
            <p:cNvSpPr/>
            <p:nvPr/>
          </p:nvSpPr>
          <p:spPr>
            <a:xfrm>
              <a:off x="5029200" y="3048120"/>
              <a:ext cx="60948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2667240"/>
              <a:ext cx="609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25909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221004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21337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35880" y="21337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4680" y="27432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4680" y="2057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5880" y="266688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2133720"/>
            <a:ext cx="159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ume set D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cupies half of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CA47-7E9C-4A5D-9F87-3A4E3522D0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tripe</a:t>
            </a: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d Volumes (RAID-0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partitions, one partition per disk (of same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into a single logical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timize data storage and retrieval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s are narrow: 64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tends to be distributed evenly among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pending read/write ops. will operate on different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ncy for disk I/O is often reduced (parallel seek oper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76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32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34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6064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420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23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9960" y="217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A3D1-8E21-45E6-93AD-1C413B322A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t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ement redundant storag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 sets (RAID-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 sets with parity (RAID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tor sp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Windows Disk Management MMC snap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rored Volu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of a partition on one disk are duplicated on another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/DMIO write same data to both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349"/>
              </a:spcBef>
              <a:spcAft>
                <a:spcPts val="349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perations are done simultaneously on both disk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oad balancing)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5760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3904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3904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2624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33720" y="4419720"/>
            <a:ext cx="8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rr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9E3C-CD40-4EBE-9AA7-43C3F2659E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irror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mprovement because reads of different data can occur in parallel through dynamic load bal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66756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7612-9520-45C0-A4FC-39E08E0DAC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RAID-5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 tolerant version of a regular strip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: logical sum (X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 info is distributed evenly over available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construct missing data by using XOR 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51460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8480" y="27115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7A0F-5E30-40FF-9A0E-B0D76D2E7D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Disk Management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MC Snapi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1676520"/>
          <a:ext cx="655344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5344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8B86-93B1-45C3-8879-D34FB12382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Volume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5041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M Volume Manager inserts itself above disk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s “volumes” to fi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volume-oriented requests and can create sub-requests aimed at different disks of multipartition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00720" y="1341360"/>
          <a:ext cx="3544920" cy="511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00720" y="1341360"/>
                    <a:ext cx="35449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08E6-AD75-443E-AF4C-DC2227578D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 Cluster Recove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sparing is supported by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copying of recovered data to spare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ntervention from file system /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 for certai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turn bad sector warning to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r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is supported by NT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ot reuse bad clu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copies data recovered by 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a new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cannot recover data from bad sector without help from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ever write to bad sector (r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 before wr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DE2B-FEA5-4179-99F5-8E8C3E076C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-cluster re-mapp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9760" y="32288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2880" y="322884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32288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6120" y="32288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3376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5337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353376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33760"/>
            <a:ext cx="289548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454720"/>
            <a:ext cx="11430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360" y="4295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715000" y="3533760"/>
          <a:ext cx="3048120" cy="1800360"/>
        </p:xfrm>
        <a:graphic>
          <a:graphicData uri="http://schemas.openxmlformats.org/drawingml/2006/table">
            <a:tbl>
              <a:tblPr/>
              <a:tblGrid>
                <a:gridCol w="892080"/>
                <a:gridCol w="892440"/>
                <a:gridCol w="12636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677960" y="51339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3800" y="57592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9548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5759280"/>
            <a:ext cx="22860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543888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4880" y="61405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9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65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29936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908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90760" y="4295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42958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5057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05764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896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819760"/>
            <a:ext cx="5331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1320" y="55148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8360" y="61246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520" y="46004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48320" y="460044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69760" y="15238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2880" y="15238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200" y="152388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6120" y="1523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82880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82880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8288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791320" y="1828800"/>
          <a:ext cx="2971440" cy="1017720"/>
        </p:xfrm>
        <a:graphic>
          <a:graphicData uri="http://schemas.openxmlformats.org/drawingml/2006/table">
            <a:tbl>
              <a:tblPr/>
              <a:tblGrid>
                <a:gridCol w="893520"/>
                <a:gridCol w="893520"/>
                <a:gridCol w="11844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67080" y="2635200"/>
            <a:ext cx="53352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7640" y="2330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4680" y="294012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600" y="2590920"/>
            <a:ext cx="914400" cy="19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3BE5-2062-4089-9289-59533BF9B9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0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tion of Fault-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Support in 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Management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ped and Spanned Volu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 (F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Load Balancing (N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Clustering (MS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E45A-6430-49D8-8CD5-BEC80AE79C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istributed File System (DFS)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Data Replication for high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ic storage management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spa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mplified views of folders regardless of where those files physically reside in 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mespace abstracts away file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f a file server’s name does not break virtual DFS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tores path names logically as a single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ed file servers for high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8937-C9A2-4223-A41A-0256F012E0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DFS Wor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a server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Windows system can be a DFS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NT/2000/2003 Server include DFS server compon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iew of shared folders on different servers is called the DFS name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virtual UNC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ingle namespa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p to phys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resid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multiple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038480" y="3276720"/>
          <a:ext cx="4843440" cy="3036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276720"/>
                    <a:ext cx="484344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2BC3-60D3-4446-8A18-F2EB2408D8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Oper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96280" indent="-2962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operates in multipl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request of the DFS namespa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returns the appropriate path to the data (including Active Directory site-costing information when AD is in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connection to the server and sh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438280" y="3276720"/>
          <a:ext cx="4564080" cy="340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276720"/>
                    <a:ext cx="45640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081D-4F5E-4E10-847A-FD01C164F5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is a multi-protocol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MB and LAN Manager authentication protocols to communicate between a DFS client and a DFS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erver can redirect requests to various types of shares protocol-specific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essage Block (SMB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File System (NFS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 for Macintosh™ (AFP) servers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are™ Core Protocol (NCP)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lient machines must install suitable redirect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ED21-22E9-4AB3-8201-E3FDA1E8F0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Request Routing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for replicated server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/Folders on a DFS server can be replicated using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solves file and folder name conflicts to make data consistent among the replic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uses “last writer wins” rule to resolve confli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requests are then routed to the closest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erver becomes unavailable, DFS ensures that requests are routed to the next closest server by using site-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 site and costing information will be used for rout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e.; whether sites are connected via inexpensive, high-speed links or by expensive WAN l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9B3B-3D70-4556-B429-60BD784085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ile Replication Service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FRS) Detail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replication schedule, server load, and network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file or folder is changed and closed, FRS begins replicating within three sec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 replication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-tolerant distribution by way of multiple connection paths betwee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cal file data is sent no more than once to any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2B86-682B-4B66-ACAE-99751F506E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RS Detail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scheduled to occur at specified times and dur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ng data during off-hours may free up network bandwidth for other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 are replicated only after they have been changed and cl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lies on the update sequence number (USN) journal to log records of files that have changed on a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does not lose track of a changed file even if a replica member shuts down abrup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F72F-6210-4CFC-BDF2-D40ECACA6E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MT"/>
              </a:rPr>
              <a:t>Distributed File System Solution in Microsoft Windows Server 2003 R2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 Replication is a new state-based, multimaster replication eng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plication scheduling and bandwidth thrott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ompression protocol called Remote Differential Compression (R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to efficiently update files over a limited-bandwidth 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C detects insertions, removals, and re-arrangements of data in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C replicates only the changes when files are upd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-file RDC can help reduce the amount of bandwidth required to replicate new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tial improvements over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4E79-FC6B-4547-87BF-D958278049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Availability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DFS and FRS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may pointing to multiple volumes that can be alternates for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manages failover to alternate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copies of read-only shares can be mounted under the same logical DFS name (re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ccesses to DFS volumes are evenly distributed across multiple alternate network sh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S and DFS replication (in Server 2003 R2) can be used to maintain consistency among replicated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CCD3-AE2D-496F-A20D-67C57EC8AE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etwork Load Balancing (NLB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ustering technology for stateles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all Windows 2000 Server and Windows Server 2003 famil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distributed algorithm to load balance network traffic across a number of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to enhance the scalability and availability of mission critical, IP-based servic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, Virtual Private Networking, Streaming Media, Terminal Services, Proxy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vailability by detecting host failures and redistributing traffic to operational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A246-549D-4C3F-AC2F-9249DF9EE8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t Syste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the property of a system that continues operating properly in the event of failure of some of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s operating quality decreases at all, the decrease is proportional to the severity of the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ce is particularly sought-after in high-availability or life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not just a property of individual machines; it may also characterize the rules by which they inte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63C8-AEEE-4FD8-B883-4527970C5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versus 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er cluster (MSCS) is a collection o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single, highly availabl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can be failed over (SQL Server, Exchange Server data stores, file and print serv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S clusters are used for statefu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B clusters distribute 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clusters provide a highly available and scalable platform for applications such as IIS, ISA serv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is used for stateless applications; i.e. those that do not build any state as a result of a requ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B6B4-A772-44B5-AD8E-3C96B92C52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for High Availab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NLB Detect a Server Fail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LB Cluster host emits heartbea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o remove a failed host from the clu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ault, five seconds are required to detect a failed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akes three seconds to evict the failed host and redistribute its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6D90-640E-4117-9B6A-1268C2243F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Load Balancing Algorith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distributed filtering algorithm to map incoming clients to the cluster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hosts simultaneously inspect arriving packets and determine which host should handle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 function determines destination and calculates a host priority based on IP address, por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ination host forwards the packet to the TCP/IP network s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luster hosts discard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remains unchanged unless the membership of cluster hosts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iven clients IP address and port will always map to the same cluster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ffinity settings modify statistical mapping algorith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7632-92E0-4BB1-A22D-FCB84BAB53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Implementation and Overhea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has a kernel component called wlbs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intermediate NDI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B also has user-mode management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creates additional CPU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linearly with increased throughput on network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2133720" y="3657600"/>
            <a:ext cx="45273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B6CD-0E9D-4BEA-A4E5-426695FD6F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Windows Server 2003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ing technology for statefu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matically improved version of the Microsoft Cluster Service (MSCS) compon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CS was included with Windows 2000 Advanced Server and Windows 2000 Datacen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and eight servers that will act as nodes in the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resource include network names, IP addresses, applications, services, and disk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4311-C864-417B-89DD-BBB51925A8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 Oper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single quorum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 in a cluster use a quorum to track which node owns a clustere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is the storage device controlled by the primary node for a clustere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one node at a time may ow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ailover, the backup node takes ownership of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may be created on the storage device attached to all nodes (single quorum device server clus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362320" y="4495680"/>
          <a:ext cx="4952880" cy="228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2320" y="4495680"/>
                    <a:ext cx="49528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7A97-7D4D-49C0-8C2C-9645170B6A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ajority node set (MNS)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orum stored on a locally attached storage device connected to each of the cluster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up node must have a copy of the data stored withi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handles this requirement by replicating quorum data across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n be a LAN, WAN, or VP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09680" y="4419720"/>
          <a:ext cx="5181840" cy="2305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51818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479B-0D5B-4DC2-B5DB-35E16B81B9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vailability of a Server Clust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ffectively fail over between nodes, majority node set clusters must have at least three no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half of the cluster nodes must be active at al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in a cluster with three nodes, two of them must be active for the cluster to be 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node clusters must have five nodes active to remain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quorum device server clusters require that only a single node continues to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B4BA-E752-4AF3-92F5-CA1F0CFEE0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rdware and Software Fail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ed disks, memory, processors, power, and network equipment are all common sources of unplanned dow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and NLB can be used to provide availability in the event of a failure of a processor, memory chip, power supply, or other hardware compon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s provide availability at many other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omplete redundancy, all layers of your application must be clu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provides availability and scalability for the firewalls, front-end servers, and application serve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provides high availability for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3720-49D3-402B-8FA9-59B44387B41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ustered Application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he bigger pictur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1523880"/>
          <a:ext cx="82296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1BA4-C4AA-4365-B673-9853CAD0497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Models and Protoc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specify Fault Model when discussing fault-tolerant (FT)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T mechanisms in Windows are dealing with crash faults of computers or application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sh faults can be handled by replication in space 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2662200"/>
            <a:ext cx="822960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2DEF-96B8-4F06-AD72-594AF5CFEA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2 - File Syste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covery Support (from pp. 7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3 - Network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oad Balancing and File Replication Service (from pp. 84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0 - Storage Manag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Management (from pp. 6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s (F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nologies/storage/dfs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Load Balancing (NLB) for Windows 2000 and Windows Server 200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technet/prodtechnol/windowsserver2003/technologies/clustering/nlbfaq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info/overview/bdmtdm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7544-B5B2-41CF-8234-B7B6B91A1EF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fstub – partition table/MBR suppor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other topics covered in this unit are not included with the W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7951-365F-40CC-AE3B-E3DB6E40B7AF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(FT) by dupl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pproaches toward F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ng tasks or requests to all of them in parallel, and choosing the correct result on the basis of a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-over among 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-back or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different implementations of the same sp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m like replicated systems to cope with errors in a specific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B1B9-59C8-4E46-AD8D-9A2D40FFBD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in NTF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Increasing System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-based logg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, even for large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very is limited to file system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ransaction processing like SQL server for use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off: performance versus fully fault-tolerant File System (F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options for file I/O &amp; cac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eful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VAX/VMS FS, other proprietary OS 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zy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UNIX FS, OS/2 HPF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EBE9-1A7A-452D-AF32-9D0D26D857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able File System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Journaling File System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of careful write FS / performance of lazy write 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 file + fast recovery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imposes some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ation over lazy write: distance between cache flush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suppor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write-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flus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iggered by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extra disk I/O to update FS data structures necessary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hanges to FS structure are recorded in log file which can be written in a single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future, NTFS may support logging for user files (hooks in pla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7E4A-FEC3-4389-B2DB-C878C1EDC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performs automatic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update records and checkpoints in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cords store sub operations that change File System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rites checkpoint every 5 s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copy of transaction table and dirty pag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point includes LSNs of the log records containing the tabl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series of records - interleaved with upd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 depends on two NTFS in-memory tab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ansac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keeps track of active transactions (not complete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b operations of these transactions must be removed from dis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ty page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rds which pages in cache contain modifications to file system structure that have not yet been written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530680"/>
            <a:ext cx="7924680" cy="609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rty page 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607000"/>
            <a:ext cx="10670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ransaction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607000"/>
            <a:ext cx="10666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heckpoint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640" y="629280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6640" y="6292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43F4-EA4D-4337-A883-B83CA5CB9E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56:58Z</dcterms:modified>
  <cp:revision>85</cp:revision>
  <dc:subject>Windows Operating Systems Internals Course</dc:subject>
  <dc:title>Unit OS 10: Fault-Tolerance</dc:title>
</cp:coreProperties>
</file>